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5AB-E38D-4D35-BD31-6483B070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38C-97A8-481F-A91A-4EB2540E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5C4-4890-4D51-8F08-8919AC11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F1A-D098-48D7-8737-E0C2B2B4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1C43-BE71-4BE3-9285-494A2956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0BBB-610E-40D3-88C7-5B44DC7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5AA-6A62-46F3-8AB5-E6A40212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5B54-4232-44CC-8398-0DBDA3B7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54FF-F0BA-4E37-9F11-D549C6CC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6842-45DB-4EE6-B8AA-AB68133E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190C-B019-465F-81C7-20D4D49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203-1B48-4EB4-ABD2-AB482629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1E77-D42D-4733-BDB3-F5733317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99C5-85E3-47D8-B13D-652D761B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6455-26F5-4769-9D3B-01BDCAE2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C9D9-2233-4E29-BC3E-40DB1736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304F-E32E-493C-880E-110FE512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CDF7C-E418-4841-8EC0-50B37A32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5D358-B226-4DFA-8712-1EC5956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624EF-5FF2-4B5E-B465-FD4B8908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2654D-DBF8-4484-884D-794F1D85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85385-AB70-4411-8B0E-4B4B639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90F-CA66-4972-AAF0-5922B5EA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8AF81-5CD2-4F26-8F77-0F154FB6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A2B98-C1E9-4E56-A646-0D5B4C2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28596-F323-446E-8864-4E116695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9CBAB-1722-40D1-B0EA-522BE5D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3096B-B30E-403E-A722-F5B9DE1A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400C6-0F58-405F-A610-ED4319C4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3AD13-6802-4BCD-9DBF-1A650046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98A9-22CA-486D-A46C-708F702E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E5BE-D191-4643-85C3-F2C48CD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260F-7FEE-4B72-8F28-F20A89D8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3F2-5EA4-4FB9-97EC-AC737516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22CD8-8ECF-478A-A2D6-66E3880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01DA7-87BB-45A8-B5EB-BF5C4F1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EE01-4F2C-445A-A7BE-B96BDF6E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1F74-3806-45E5-BF11-23FEC3CD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29EF-0FA9-414A-B0DF-337EF51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FB356-4142-49B5-885D-C0D62B48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3DE7-02FE-4527-A01C-93633F9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67D2-8135-42E6-B596-E485F670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C38E-0548-405F-9655-813EF72D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F3EE4-EF1B-4E0A-A726-9AD1874F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024-C514-4CFF-8F0D-ADDDEF5C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1D4D5-E41F-43DA-9FF7-F349E089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78839-765B-446E-BEA2-96323DA6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869BE-53BA-447D-9029-74ED0FAA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BD278-2209-4A56-8E9E-01F76C9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3FE30-2183-418B-8239-431761D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85876-4DDC-41BB-90FE-6814E47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A8D30-8F18-44E3-9D34-8263DE61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23945-794E-40D1-AEB1-4D8E0944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E4BE7C-D375-45F9-9ACC-26BC707B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5F72C0-CBBD-4362-84B2-32AB76E2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0FA-CBC6-4D26-A3FA-B3911A22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4DED0-7F2D-4062-A4BB-D52257CD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CEBFDD-D773-41ED-8C3C-F44B690D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ED8AB-A65F-4338-B8A9-82E10BAE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70DD7-BBAA-413C-808B-A4A64ADB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FFBE8-CF3A-4E86-96BC-A3906BE9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1C1FAE-DA3E-430A-82E1-2405A7C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05369-4755-40FD-8957-58C4305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15825-BAC5-44F4-928F-2445AB8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9E90B9-3ABC-4E89-A4B0-3A00095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CB4E4-0951-47B8-ADF6-7886574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DA2-781A-4405-8F3E-E264B465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93199-2CC2-4381-AB55-95E907C9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FA7A6-0722-4023-AB14-DEE3EBDC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51D4E-4024-4A11-B6FE-AA18B5A2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E7048-187D-4B49-87D5-C28E1B71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6CFEF-53C6-43C9-B50E-FB7D5E39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A608FD-572E-41D8-8895-E42E6B19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02693-D234-478E-9319-7B4B944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B9742-2ACD-4C99-83F4-80FA428D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EE223-65D8-40D8-B9A9-7B1CEB93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5DFC7-FA34-4A6E-AE9C-7BF5DC96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53B-4E65-4374-9A98-5BAEE58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1197F-F1EA-4C6B-BBAC-4E689A8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6E9CB-3C0C-4E22-8D0A-A0785D6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1F6F0-E68B-421C-83DA-D63019D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9359E-4C83-4315-86DD-9BB3DDBC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D0F64-0522-4448-A7D4-4A19C136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8D3-8765-4C9E-BA57-96C4E77A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4623-1849-4EAE-AA04-AAD5A4285F02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A073-9189-484A-BB29-B24213E5C58B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488-49D5-40DE-B296-DA8750EB8880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8241-A8CE-46CB-87A6-D94378070C32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C04A-8617-4C11-BD37-B8D2189FC403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4E72-4179-495D-A763-6C5C2C3CCA3B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537C-4433-4AD6-BDAA-F4B7BED65C3B}" type="slidenum">
              <a:rPr b="1" lang="en-A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11"/>
          <p:cNvSpPr/>
          <p:nvPr/>
        </p:nvSpPr>
        <p:spPr>
          <a:xfrm>
            <a:off x="2786040" y="1857240"/>
            <a:ext cx="3714840" cy="4286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4" descr=""/>
          <p:cNvPicPr/>
          <p:nvPr/>
        </p:nvPicPr>
        <p:blipFill>
          <a:blip r:embed="rId2"/>
          <a:stretch/>
        </p:blipFill>
        <p:spPr>
          <a:xfrm>
            <a:off x="1225440" y="176040"/>
            <a:ext cx="8120160" cy="11829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5"/>
          <p:cNvSpPr/>
          <p:nvPr/>
        </p:nvSpPr>
        <p:spPr>
          <a:xfrm>
            <a:off x="3571920" y="471492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 action="ppaction://hlinksldjump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3571920" y="4286160"/>
            <a:ext cx="20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4" action="ppaction://hlinksldjump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3571920" y="385776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5" action="ppaction://hlinksldjump"/>
              </a:rPr>
              <a:t>Front ben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8"/>
          <p:cNvSpPr/>
          <p:nvPr/>
        </p:nvSpPr>
        <p:spPr>
          <a:xfrm>
            <a:off x="3571920" y="3429000"/>
            <a:ext cx="15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6" action="ppaction://hlinksldjump"/>
              </a:rPr>
              <a:t>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9"/>
          <p:cNvSpPr/>
          <p:nvPr/>
        </p:nvSpPr>
        <p:spPr>
          <a:xfrm>
            <a:off x="3500280" y="2214720"/>
            <a:ext cx="257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7" action="ppaction://hlinksldjump"/>
              </a:rPr>
              <a:t>‘Cross the flo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0"/>
          <p:cNvSpPr/>
          <p:nvPr/>
        </p:nvSpPr>
        <p:spPr>
          <a:xfrm>
            <a:off x="3571920" y="2643120"/>
            <a:ext cx="16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d2611c"/>
                </a:solidFill>
                <a:uFillTx/>
                <a:latin typeface="Century Schoolbook"/>
                <a:hlinkClick r:id="rId8" action="ppaction://hlinksldjump"/>
              </a:rPr>
              <a:t>Coal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571920" y="3000240"/>
            <a:ext cx="15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Cha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3554640" y="514368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Qu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2214360"/>
            <a:ext cx="746748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Schoolbook"/>
              </a:rPr>
              <a:t>The Queen is Australia’s head of stat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Rectangle 3" descr=""/>
          <p:cNvPicPr/>
          <p:nvPr/>
        </p:nvPicPr>
        <p:blipFill>
          <a:blip r:embed="rId1"/>
          <a:stretch/>
        </p:blipFill>
        <p:spPr>
          <a:xfrm>
            <a:off x="658800" y="390600"/>
            <a:ext cx="7205760" cy="1109520"/>
          </a:xfrm>
          <a:prstGeom prst="rect">
            <a:avLst/>
          </a:prstGeom>
          <a:ln w="0">
            <a:noFill/>
          </a:ln>
        </p:spPr>
      </p:pic>
      <p:sp>
        <p:nvSpPr>
          <p:cNvPr id="387" name="TextBox 4"/>
          <p:cNvSpPr/>
          <p:nvPr/>
        </p:nvSpPr>
        <p:spPr>
          <a:xfrm>
            <a:off x="57168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End slide 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3"/>
          <p:cNvSpPr/>
          <p:nvPr/>
        </p:nvSpPr>
        <p:spPr>
          <a:xfrm>
            <a:off x="428760" y="271476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Schoolbook"/>
              </a:rPr>
              <a:t>An independent is a not a member of a political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Rectangle 4" descr=""/>
          <p:cNvPicPr/>
          <p:nvPr/>
        </p:nvPicPr>
        <p:blipFill>
          <a:blip r:embed="rId1"/>
          <a:stretch/>
        </p:blipFill>
        <p:spPr>
          <a:xfrm>
            <a:off x="-42840" y="749160"/>
            <a:ext cx="9163080" cy="11098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428760" y="59292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3" descr=""/>
          <p:cNvPicPr/>
          <p:nvPr/>
        </p:nvPicPr>
        <p:blipFill>
          <a:blip r:embed="rId1"/>
          <a:stretch/>
        </p:blipFill>
        <p:spPr>
          <a:xfrm>
            <a:off x="-317520" y="176040"/>
            <a:ext cx="9077400" cy="11098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785880" y="2071800"/>
            <a:ext cx="61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entury Schoolbook"/>
              </a:rPr>
              <a:t>Government means to rule, to administer or to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5"/>
          <p:cNvSpPr/>
          <p:nvPr/>
        </p:nvSpPr>
        <p:spPr>
          <a:xfrm>
            <a:off x="1071720" y="4286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3" descr=""/>
          <p:cNvPicPr/>
          <p:nvPr/>
        </p:nvPicPr>
        <p:blipFill>
          <a:blip r:embed="rId1"/>
          <a:stretch/>
        </p:blipFill>
        <p:spPr>
          <a:xfrm>
            <a:off x="-231840" y="249120"/>
            <a:ext cx="9455040" cy="110988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571680" y="2143080"/>
            <a:ext cx="7715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A frontbencher is a member of parliament who is a minister or a shadow minister . Frontbenchers sit at the front bench of each cha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642960" y="49291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3" descr=""/>
          <p:cNvPicPr/>
          <p:nvPr/>
        </p:nvPicPr>
        <p:blipFill>
          <a:blip r:embed="rId1"/>
          <a:stretch/>
        </p:blipFill>
        <p:spPr>
          <a:xfrm>
            <a:off x="390600" y="176040"/>
            <a:ext cx="7729560" cy="110988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785880" y="2286000"/>
            <a:ext cx="77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An election is where a person or government is chosen by vo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642960" y="60721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3" descr=""/>
          <p:cNvPicPr/>
          <p:nvPr/>
        </p:nvPicPr>
        <p:blipFill>
          <a:blip r:embed="rId1"/>
          <a:stretch/>
        </p:blipFill>
        <p:spPr>
          <a:xfrm>
            <a:off x="19080" y="353880"/>
            <a:ext cx="8912160" cy="9874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4"/>
          <p:cNvSpPr/>
          <p:nvPr/>
        </p:nvSpPr>
        <p:spPr>
          <a:xfrm>
            <a:off x="714240" y="200016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To cross the floor it is to vote against your party in a way that involves moving  from one side of the chamber to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71680" y="500076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3" descr=""/>
          <p:cNvPicPr/>
          <p:nvPr/>
        </p:nvPicPr>
        <p:blipFill>
          <a:blip r:embed="rId1"/>
          <a:stretch/>
        </p:blipFill>
        <p:spPr>
          <a:xfrm>
            <a:off x="-30240" y="176040"/>
            <a:ext cx="9113760" cy="11098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/>
          <p:cNvSpPr/>
          <p:nvPr/>
        </p:nvSpPr>
        <p:spPr>
          <a:xfrm>
            <a:off x="500040" y="1857240"/>
            <a:ext cx="7572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Schoolbook"/>
              </a:rPr>
              <a:t>A constitution is a set of rules by which a country or state is run</a:t>
            </a:r>
            <a:r>
              <a:rPr b="0" lang="en-A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AU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928800" y="49291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3" descr=""/>
          <p:cNvPicPr/>
          <p:nvPr/>
        </p:nvPicPr>
        <p:blipFill>
          <a:blip r:embed="rId1"/>
          <a:stretch/>
        </p:blipFill>
        <p:spPr>
          <a:xfrm>
            <a:off x="676440" y="603360"/>
            <a:ext cx="8022960" cy="11095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1285920" y="2357280"/>
            <a:ext cx="657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d0d0d"/>
                </a:solidFill>
                <a:latin typeface="Century Schoolbook"/>
              </a:rPr>
              <a:t>The coalition is the joining together of  parliamentary parties to form a government or an op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1357200" y="55720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57120" y="1928880"/>
            <a:ext cx="74678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entury Schoolbook"/>
              </a:rPr>
              <a:t>A chamber is meeting room of a house of parliament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Rectangle 3" descr=""/>
          <p:cNvPicPr/>
          <p:nvPr/>
        </p:nvPicPr>
        <p:blipFill>
          <a:blip r:embed="rId1"/>
          <a:stretch/>
        </p:blipFill>
        <p:spPr>
          <a:xfrm>
            <a:off x="450720" y="324000"/>
            <a:ext cx="7894800" cy="11080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642960" y="5715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entury Schoolbook"/>
              </a:rPr>
              <a:t>Back to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8:11Z</dcterms:created>
  <dc:creator>Education</dc:creator>
  <dc:description/>
  <dc:language>en-US</dc:language>
  <cp:lastModifiedBy>Education</cp:lastModifiedBy>
  <dcterms:modified xsi:type="dcterms:W3CDTF">2009-10-27T22:52:01Z</dcterms:modified>
  <cp:revision>12</cp:revision>
  <dc:subject/>
  <dc:title>Slide 1</dc:title>
</cp:coreProperties>
</file>